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D05-6EA8-4E94-980B-BA3CBC2D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630-9E20-49DF-96AE-C517230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D41-825A-41AF-9FE0-DC6B876F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B6C-6B3D-443E-96B6-2D5E5235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A20-6DE6-4105-8C1A-E47D914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074-69F9-44CF-96FB-73FAA7D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6B4-FC12-4FE9-AA2D-3D367792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D1E-59BC-43BA-8AC1-E9E5518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780-C22A-49E5-84C7-3E5F586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38A-0206-47C2-BFA9-C7FC9805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0AA-4318-4059-A126-01E9930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DCD-05A1-4686-AF14-68FB86F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0DB-D7F1-4449-8FE9-5889628B4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29528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23083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2514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Rockwell Extra Bold"/>
              </a:rPr>
              <a:t>Une p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cc"/>
                </a:solidFill>
                <a:latin typeface="Rockwell Extra Bold"/>
              </a:rPr>
              <a:t>Une pê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715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Rockwell Extra Bold"/>
              </a:rPr>
              <a:t>Une p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cc"/>
                </a:solidFill>
                <a:latin typeface="Rockwell Extra Bold"/>
              </a:rPr>
              <a:t>une f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059280" y="1989000"/>
            <a:ext cx="237636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32000" y="494172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Un pan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5120" y="990720"/>
            <a:ext cx="5333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je vais au marché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252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43000" y="990720"/>
            <a:ext cx="6781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vec mon panier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8102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5627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mme …..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362320"/>
            <a:ext cx="5770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êche…..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343400"/>
            <a:ext cx="6059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ire…..Moi, j’ai une pê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49960" y="1523880"/>
            <a:ext cx="3794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762120"/>
            <a:ext cx="5779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fraise……Moi, j’ai une p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êche…..Moi, j’ai une po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733920"/>
            <a:ext cx="6476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mmes….un kilo de po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52280"/>
            <a:ext cx="66294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êches …..  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060640"/>
            <a:ext cx="5791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ires ……   Un kilo de pê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508640"/>
            <a:ext cx="664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fraises……Un kilo de p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êches……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971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2:10:01Z</dcterms:created>
  <dc:creator>SIMMS</dc:creator>
  <dc:description/>
  <dc:language>en-US</dc:language>
  <cp:lastModifiedBy>User</cp:lastModifiedBy>
  <dcterms:modified xsi:type="dcterms:W3CDTF">2004-02-05T23:27:23Z</dcterms:modified>
  <cp:revision>8</cp:revision>
  <dc:subject/>
  <dc:title>PowerPoint Presentation</dc:title>
</cp:coreProperties>
</file>